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32FFA-C6CF-4152-9DB9-698BA6425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E55C2-C29D-439D-8D3D-8B6523605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D7DB9-2C1A-438A-8A8E-C105B0242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B692B-810A-4B69-9332-524002E20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BCB8C-FC51-4D5B-BD5D-DCD83255C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E68F4-8C3E-497F-B2B5-94486FB9E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B0777-2BE4-4FC0-B95C-DE565FF6C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FA588-44B9-41E2-AF6E-41410B0A2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2270-E645-4701-B86F-C3BA0A24D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9799D-FFCC-4AFD-B3E6-789B8428F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86E9A-1038-4E4E-BA99-DD067A66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A43C-6274-44DC-B8CE-276C25D1A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CF3C9-115B-4DED-B324-6AA3FEDB7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A30D8-92C2-4EDF-B8C4-26ED10961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E8553-2A80-4CBD-BAA2-0DFFF810D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8B8DA-8FD7-42D1-877F-093B9A233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74769-3530-4D85-AD00-9A3BFBC01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EA2A03-1416-4A97-A96C-03A5266A7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4D2BB-71F9-4A30-B4E8-5CAD73855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9FFA8-21F7-41FB-9196-8B0420ECB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72EBF-1A31-407E-A07C-0A5BB86DC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61DE7-6DCE-414B-977C-93096D36B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8DCBC-BF2F-4CF9-BB8E-0BBD92650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D48AA-CB83-4B20-BF16-594145C74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A0808-B5AA-4AD6-B189-1F471DE65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573B2-D7FC-4019-9843-67B55CE94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4502B-379C-4C9A-8463-0BC8A5A7F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42C5B-4931-4529-8229-A4D2C4134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65626A-4ECF-4307-A9F7-77445AD783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837719-AD8F-423F-BED3-9869703A3E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F888A-07C0-4856-899F-28B991AEAC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8FCF9-B558-48B9-8C9C-93873C815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60476-3029-4640-A5E7-4859F8AD3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B2D7B-551E-41DA-A054-2DEA333B1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EB2A59-A877-4B33-A36A-1C5AB2FAD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D0296-AEE0-4F0D-A8C9-6D5C80289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65C80-D8D4-4DAA-95B0-448176D9C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B6469-938C-49D8-A04C-122E421F5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9054F-ECE8-46A8-9FA0-33D14121C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E65C9-6B2F-4C52-B075-824F88BB8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708851-9168-48A2-AF74-90059449C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6F4D8A-4B8A-453B-B8AB-1428404556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80B8E-6015-4FFB-908F-57281E58F8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04753-8153-483D-8EA8-EA45C18239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33A72-6133-4359-A506-479451DF2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114D2-1133-497E-B65D-280834C02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6E9A85-85CA-4AB0-A026-9AF7045634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1C5B4-9762-4251-AD40-06B1820FE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26AFDF-0722-4CDF-AED6-EA155203E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77269-27A6-4C61-906A-3AE80C6C1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0F407-83EA-41D3-85B7-1596E8A7D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E7F86-91B1-4D7B-A67D-8D6D081F4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3E3C3-BB01-4377-B4AD-4B8E2EE78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7F745-27D5-4047-8CC8-0C471C0EE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9AB25B-78A5-4DE2-8493-41DF72F8B3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3BE69-873C-48CD-8753-B17C156D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63F0C3-6E56-49FD-B78B-17CCC5BA91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8D2F9C-9248-4517-A236-FCCDE3DD5A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86EA2-DC10-4127-9C74-AF45329209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042CB-5F99-4200-BF71-90F5DD8BD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DFA87D-06F0-4624-830D-203578087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3F248-E1D6-4B24-908C-0146B653F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FF8623-259A-4934-BF5C-5FE01E0ADF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6C9C8-5233-4F4B-A610-A643BC509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2DB81-A4A7-40F9-978C-67659505E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5EF37-16EA-4C4A-8C07-3F5F3640A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C5AD-E4EA-4452-B8BF-2B5B8FB2F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0EDED4-E2CB-472F-8310-B0F71DB8D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95811C-CC4A-41D5-8D37-AC6C5E5233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DF3D3-6DE7-4E59-8122-44B91D3E2D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866BFF-38EE-43A6-B0A4-05E6A7A9C8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838B3D-D947-4E89-8DE4-3BD9A5BCBF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E44AA-9D2C-4849-B384-BBF6300727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4AD3F4-EC0F-4B96-A154-F88326F409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884544-DA01-4548-8CB1-8119216EDC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D02AFE-DFFF-481B-9350-261842D84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D9A94-2B69-4DBF-A172-BE71A1A73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9BC1-C20E-4D3F-9143-05D7386AD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36345-3F40-43DB-8753-11A12A1DA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055E3-5457-4F30-9184-0BDC3D7DE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00DD0-0635-4119-9784-813822863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89A43A-A620-4260-9CA1-BCC0433E02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035D8B-0213-4425-8643-B45FDCEA20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872379-6CBE-4F71-8496-496E2D9A14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956045-35BC-4619-B1A6-83D0F4B69C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22CFAE-D912-4971-96FD-D5181FF74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99FE31-AA61-4350-BF5C-1F123DC1B2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F1B44D-DAB5-45B1-8C8E-9FEE13D87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EA0D8-290B-458E-932A-BB3E1485D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22CCE5-A3BA-4ED5-A06A-FCA3D2AE45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E6F434-17C6-4852-B0FE-98370F1545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9E910-87CB-45EF-9444-F1C93EF1A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B6FC1-8720-4B37-9579-CD70C94D1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0FD873-59C6-4B9F-B84D-7048FB2A8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F5695A-EEB8-41BE-BDE5-436CB43179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9C0D2-03A6-4ECA-BAF9-08B27AA3AD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CF22-C42C-4FB7-A1E8-59C0591FA621}"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12FB-F9A0-4E46-B1B7-CF6663BA15BC}"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C02A-474E-4BED-8E82-BA1DAC920E0B}"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D435-325F-47C9-BA7D-01E80BE68AE0}"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7A87-9D9F-4183-B31C-D03C0C30A47E}"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F27B-4300-4F59-B6C0-27958371A72E}"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3A00-417E-43F2-B237-67A929DF721C}"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589B-A044-4967-90BD-EE201813909A}"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512640"/>
            <a:ext cx="8717040" cy="41148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c000"/>
                </a:solidFill>
                <a:latin typeface="Kahootz Burnum Medium"/>
              </a:rPr>
              <a:t>B</a:t>
            </a:r>
            <a:r>
              <a:rPr b="0" lang="en-AU" sz="3600" spc="-1" strike="noStrike">
                <a:solidFill>
                  <a:srgbClr val="ff0000"/>
                </a:solidFill>
                <a:latin typeface="Kahootz Burnum Medium"/>
              </a:rPr>
              <a:t>y</a:t>
            </a:r>
            <a:r>
              <a:rPr b="0" lang="en-AU" sz="3600" spc="-1" strike="noStrike">
                <a:solidFill>
                  <a:srgbClr val="000000"/>
                </a:solidFill>
                <a:latin typeface="Kahootz Burnum Medium"/>
              </a:rPr>
              <a:t> </a:t>
            </a:r>
            <a:r>
              <a:rPr b="0" lang="en-AU" sz="3600" spc="-1" strike="noStrike">
                <a:solidFill>
                  <a:srgbClr val="c00000"/>
                </a:solidFill>
                <a:latin typeface="Kahootz Burnum Medium"/>
              </a:rPr>
              <a:t>C</a:t>
            </a:r>
            <a:r>
              <a:rPr b="0" lang="en-AU" sz="3600" spc="-1" strike="noStrike">
                <a:solidFill>
                  <a:srgbClr val="7030a0"/>
                </a:solidFill>
                <a:latin typeface="Kahootz Burnum Medium"/>
              </a:rPr>
              <a:t>h</a:t>
            </a:r>
            <a:r>
              <a:rPr b="0" lang="en-AU" sz="3600" spc="-1" strike="noStrike">
                <a:solidFill>
                  <a:srgbClr val="002060"/>
                </a:solidFill>
                <a:latin typeface="Kahootz Burnum Medium"/>
              </a:rPr>
              <a:t>l</a:t>
            </a:r>
            <a:r>
              <a:rPr b="0" lang="en-AU" sz="3600" spc="-1" strike="noStrike">
                <a:solidFill>
                  <a:srgbClr val="0070c0"/>
                </a:solidFill>
                <a:latin typeface="Kahootz Burnum Medium"/>
              </a:rPr>
              <a:t>o</a:t>
            </a:r>
            <a:r>
              <a:rPr b="0" lang="en-AU" sz="3600" spc="-1" strike="noStrike">
                <a:solidFill>
                  <a:srgbClr val="00b0f0"/>
                </a:solidFill>
                <a:latin typeface="Kahootz Burnum Medium"/>
              </a:rPr>
              <a:t>e</a:t>
            </a:r>
            <a:r>
              <a:rPr b="0" lang="en-AU" sz="3600" spc="-1" strike="noStrike">
                <a:solidFill>
                  <a:srgbClr val="000000"/>
                </a:solidFill>
                <a:latin typeface="Kahootz Burnum Medium"/>
              </a:rPr>
              <a:t> </a:t>
            </a:r>
            <a:r>
              <a:rPr b="0" lang="en-AU" sz="3600" spc="-1" strike="noStrike">
                <a:solidFill>
                  <a:srgbClr val="00b050"/>
                </a:solidFill>
                <a:latin typeface="Kahootz Burnum Medium"/>
              </a:rPr>
              <a:t>B</a:t>
            </a:r>
            <a:r>
              <a:rPr b="0" lang="en-AU" sz="3600" spc="-1" strike="noStrike">
                <a:solidFill>
                  <a:srgbClr val="92d050"/>
                </a:solidFill>
                <a:latin typeface="Kahootz Burnum Medium"/>
              </a:rPr>
              <a:t>e</a:t>
            </a:r>
            <a:r>
              <a:rPr b="0" lang="en-AU" sz="3600" spc="-1" strike="noStrike">
                <a:solidFill>
                  <a:srgbClr val="ffff00"/>
                </a:solidFill>
                <a:latin typeface="Kahootz Burnum Medium"/>
              </a:rPr>
              <a:t>a</a:t>
            </a:r>
            <a:r>
              <a:rPr b="0" lang="en-AU" sz="3600" spc="-1" strike="noStrike">
                <a:solidFill>
                  <a:srgbClr val="ffc000"/>
                </a:solidFill>
                <a:latin typeface="Kahootz Burnum Medium"/>
              </a:rPr>
              <a:t>r</a:t>
            </a:r>
            <a:r>
              <a:rPr b="0" lang="en-AU" sz="3600" spc="-1" strike="noStrike">
                <a:solidFill>
                  <a:srgbClr val="ff0000"/>
                </a:solidFill>
                <a:latin typeface="Kahootz Burnum Medium"/>
              </a:rPr>
              <a:t>d</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28760" y="15001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0" lang="en-AU" sz="2700" spc="-1" strike="noStrike">
                <a:solidFill>
                  <a:srgbClr val="92d050"/>
                </a:solidFill>
                <a:latin typeface="Lucida Sans Unicode"/>
              </a:rPr>
              <a:t>AS THE BIGGEST TOWER IN THE SOUTHERN HEMISPHERE, THE EUREKA SKYDCK IS AN AMAZING 92 STORIES HIGH, IT OPENING TOOK THE RIALTO TOWERS OUT OF IT’S PLACE AS IT HAD BEEN THE BIGGEST AND BEST WITH 60 FLOORS, THE DIFFERENCE BETWEEN THE TOWERS IS EVEN HIGHER THAN YOU MIGHT THINK...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0" lang="en-AU" sz="2700" spc="-1" strike="noStrike">
                <a:solidFill>
                  <a:srgbClr val="ffff00"/>
                </a:solidFill>
                <a:latin typeface="Lucida Sans Unicode"/>
              </a:rPr>
              <a:t>THE DIFFERENCE IS 32 STORI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225360" y="128520"/>
            <a:ext cx="880920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28760" y="178596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c000"/>
                </a:solidFill>
                <a:latin typeface="Lucida Sans Unicode"/>
              </a:rPr>
              <a:t>  </a:t>
            </a:r>
            <a:r>
              <a:rPr b="0" lang="en-AU" sz="2700" spc="-1" strike="noStrike">
                <a:solidFill>
                  <a:srgbClr val="ffc000"/>
                </a:solidFill>
                <a:latin typeface="Lucida Sans Unicode"/>
              </a:rPr>
              <a:t>THE HEIGHT OF THE MCG LIGHT TOWERS IS 75M, THEY TOWER OVER THE MELBOURNE CRICKET GROUNDS, THEY ARE WHITE AND NUMBERED AROUND THE GROUNDS.</a:t>
            </a:r>
            <a:endParaRPr b="0" lang="en-US" sz="2700" spc="-1" strike="noStrike">
              <a:solidFill>
                <a:srgbClr val="000000"/>
              </a:solidFill>
              <a:latin typeface="Lucida Sans Unicode"/>
            </a:endParaRPr>
          </a:p>
        </p:txBody>
      </p:sp>
      <p:pic>
        <p:nvPicPr>
          <p:cNvPr id="375" name="Title 1" descr=""/>
          <p:cNvPicPr/>
          <p:nvPr/>
        </p:nvPicPr>
        <p:blipFill>
          <a:blip r:embed="rId1"/>
          <a:stretch/>
        </p:blipFill>
        <p:spPr>
          <a:xfrm>
            <a:off x="55440" y="133200"/>
            <a:ext cx="8759880" cy="13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endParaRPr b="0" lang="en-US" sz="2700" spc="-1" strike="noStrike">
              <a:solidFill>
                <a:srgbClr val="000000"/>
              </a:solidFill>
              <a:latin typeface="Lucida Sans Unicode"/>
            </a:endParaRPr>
          </a:p>
        </p:txBody>
      </p:sp>
      <p:pic>
        <p:nvPicPr>
          <p:cNvPr id="377" name="Title 1" descr=""/>
          <p:cNvPicPr/>
          <p:nvPr/>
        </p:nvPicPr>
        <p:blipFill>
          <a:blip r:embed="rId1"/>
          <a:stretch/>
        </p:blipFill>
        <p:spPr>
          <a:xfrm>
            <a:off x="407880" y="139680"/>
            <a:ext cx="8626680" cy="1901880"/>
          </a:xfrm>
          <a:prstGeom prst="rect">
            <a:avLst/>
          </a:prstGeom>
          <a:ln w="0">
            <a:noFill/>
          </a:ln>
        </p:spPr>
      </p:pic>
      <p:graphicFrame>
        <p:nvGraphicFramePr>
          <p:cNvPr id="378" name=""/>
          <p:cNvGraphicFramePr/>
          <p:nvPr/>
        </p:nvGraphicFramePr>
        <p:xfrm>
          <a:off x="1428840" y="2143080"/>
          <a:ext cx="6095880" cy="2590920"/>
        </p:xfrm>
        <a:graphic>
          <a:graphicData uri="http://schemas.openxmlformats.org/drawingml/2006/table">
            <a:tbl>
              <a:tblPr/>
              <a:tblGrid>
                <a:gridCol w="304776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3c4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Price per ki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3c4a"/>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alama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ce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4.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ced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hilli (Gre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3.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Ora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apsic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2.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her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6.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Tomat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1.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457200" y="1481040"/>
          <a:ext cx="8229600" cy="3337200"/>
        </p:xfrm>
        <a:graphic>
          <a:graphicData uri="http://schemas.openxmlformats.org/drawingml/2006/table">
            <a:tbl>
              <a:tblPr/>
              <a:tblGrid>
                <a:gridCol w="4114800"/>
                <a:gridCol w="4114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CAPITAL C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POP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PE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602,5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SYDNE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399,7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MELBOUR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892,4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BRISB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945,6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DARW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120,6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ADELA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172,1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HOB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209,2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345,2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bl>
          </a:graphicData>
        </a:graphic>
      </p:graphicFrame>
      <p:pic>
        <p:nvPicPr>
          <p:cNvPr id="380" name="Title 1"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0" lang="en-AU" sz="2700" spc="-1" strike="noStrike">
                <a:solidFill>
                  <a:srgbClr val="1faecd"/>
                </a:solidFill>
                <a:latin typeface="Lucida Sans Unicode"/>
              </a:rPr>
              <a:t>THERE ARE HEAPS OF TIMETABLES AROUND THE CITY, BELOW ARE A FEW EXAMPLES OF WHAT WE MIGHT SE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AU" sz="2700" spc="-1" strike="noStrike">
                <a:solidFill>
                  <a:srgbClr val="ffff00"/>
                </a:solidFill>
                <a:latin typeface="Lucida Sans Unicode"/>
              </a:rPr>
              <a:t>TRAINS, TRAMS, BUSES, AND SOMETIMES CONCERT TIMETABLES, AND IF YOU ARE LUCKY, YOU MIGHT EVEN FIND A DAILY TIMETABLE, DAILY TIMETABLES ARE A SHEDUALE THROUGHOUT THE DA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50"/>
                </a:solidFill>
                <a:latin typeface="Lucida Sans Unicode"/>
              </a:rPr>
              <a:t>  </a:t>
            </a:r>
            <a:r>
              <a:rPr b="1" lang="en-US" sz="2700" spc="-1" strike="noStrike">
                <a:solidFill>
                  <a:srgbClr val="00b050"/>
                </a:solidFill>
                <a:latin typeface="Lucida Sans Unicode"/>
              </a:rPr>
              <a:t>8,556,315</a:t>
            </a:r>
            <a:r>
              <a:rPr b="0" lang="en-US" sz="2700" spc="-1" strike="noStrike">
                <a:solidFill>
                  <a:srgbClr val="00b050"/>
                </a:solidFill>
                <a:latin typeface="Lucida Sans Unicode"/>
              </a:rPr>
              <a:t> PEOPLE WHO FOUGHT IN THE WAR, DIED. </a:t>
            </a:r>
            <a:br>
              <a:rPr sz="2700"/>
            </a:br>
            <a:r>
              <a:rPr b="0" lang="en-US" sz="2700" spc="-1" strike="noStrike">
                <a:solidFill>
                  <a:srgbClr val="00b050"/>
                </a:solidFill>
                <a:latin typeface="Lucida Sans Unicode"/>
              </a:rPr>
              <a:t>SOME OF THE COUNTRIES THAT FOUGHT WERE TURKEY, AUSTRALIA, CHINA AND MANY MO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b050"/>
                </a:solidFill>
                <a:latin typeface="Lucida Sans Unicode"/>
              </a:rPr>
              <a:t>IN ORDER THE COUNTRIES FROM BIGGEST TO SMLLEST A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b050"/>
                </a:solidFill>
                <a:latin typeface="Lucida Sans Unicode"/>
              </a:rPr>
              <a:t>AUSTRALIA, CHINA AND TURKEY</a:t>
            </a:r>
            <a:endParaRPr b="0" lang="en-US" sz="2700" spc="-1" strike="noStrike">
              <a:solidFill>
                <a:srgbClr val="000000"/>
              </a:solidFill>
              <a:latin typeface="Lucida Sans Unicode"/>
            </a:endParaRPr>
          </a:p>
        </p:txBody>
      </p:sp>
      <p:pic>
        <p:nvPicPr>
          <p:cNvPr id="38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856800"/>
            <a:ext cx="8329680" cy="5149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268200" y="6048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28760" y="12859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pic>
        <p:nvPicPr>
          <p:cNvPr id="389" name="Rectangle 3" descr=""/>
          <p:cNvPicPr/>
          <p:nvPr/>
        </p:nvPicPr>
        <p:blipFill>
          <a:blip r:embed="rId2"/>
          <a:stretch/>
        </p:blipFill>
        <p:spPr>
          <a:xfrm>
            <a:off x="1566720" y="122400"/>
            <a:ext cx="6156360" cy="530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04:31:50Z</dcterms:created>
  <dc:creator>Jason McBean</dc:creator>
  <dc:description/>
  <dc:language>en-US</dc:language>
  <cp:lastModifiedBy>Administrator</cp:lastModifiedBy>
  <dcterms:modified xsi:type="dcterms:W3CDTF">2009-06-04T03:46:57Z</dcterms:modified>
  <cp:revision>11</cp:revision>
  <dc:subject/>
  <dc:title>MATHS FRENZY ON CAMP</dc:title>
</cp:coreProperties>
</file>